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1BBE-7995-4367-BA4E-C2FF2DB13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3796-A338-4405-B22E-9A27B537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C52B-103F-45C1-9B35-487C13BF7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A8EA-6E82-41A9-AAAA-719A8031B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086D-1D52-44CD-A75A-96B608F8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5DF0-38EE-46E4-AC55-CA00D370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84C2-EC02-4D4D-A650-75215EE5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6D6C-DEA7-4279-BDF0-69FB5F93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D5D9-717E-4AC6-A2A8-45CB92BF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B52C-53D1-4421-BC89-57DEA097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0B36-9E71-4FEE-9FC1-07C702A8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EB8D-2BCC-43E7-9E6C-4D347AD1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C408-EBC3-4923-A10C-96EEDA1DD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" TargetMode="External"/><Relationship Id="rId2" Type="http://schemas.openxmlformats.org/officeDocument/2006/relationships/hyperlink" Target="http://www.freeplaymusic.com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eb.mit.edu/invent/iow/cartwright.html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29400" y="5029200"/>
            <a:ext cx="2362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/27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0" y="914400"/>
            <a:ext cx="4495680" cy="5334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prstDash val="lgDash"/>
                  <a:miter/>
                </a:ln>
                <a:solidFill>
                  <a:srgbClr val="ff0000"/>
                </a:solidFill>
                <a:latin typeface="Arial Black"/>
              </a:rPr>
              <a:t>Baseball</a:t>
            </a:r>
            <a:endParaRPr b="0" lang="en-US" sz="1800" spc="1" strike="noStrike">
              <a:ln w="9360">
                <a:solidFill>
                  <a:srgbClr val="ffffff"/>
                </a:solidFill>
                <a:prstDash val="lgDash"/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657600"/>
            <a:ext cx="556272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: Free Play Music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motional Feeling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ip Hop Beats, 5-7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reeplaymusic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477120" y="3809880"/>
            <a:ext cx="213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By: Alexander Cartw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6022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2514600" cy="3276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152280"/>
            <a:ext cx="3133440" cy="3353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4648320"/>
            <a:ext cx="8458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4724280"/>
            <a:ext cx="8610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 of the week Archive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exander J. Cartwrigh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y 10,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cartwrigh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75280" y="3541680"/>
            <a:ext cx="329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38862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xander J. Cartwright invented Baseb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31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34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Base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lephant"/>
              </a:rPr>
              <a:t>Baseball was institutionalized and further developed by National Association in 18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lephant"/>
              </a:rPr>
              <a:t>The Cincinnati Red Stockings became the first all professional team in 18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lephant"/>
              </a:rPr>
              <a:t>Rival National (1876) and American (1903) leagues competed in the first world series in 1903, and had the all-star game in 19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lephant"/>
              </a:rPr>
              <a:t>In 1947, the Brooklyn Dodgers signed Jackie Robinson, removing the color barrier that had cosigned black players from the “ Negro Leagu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lephant"/>
              </a:rPr>
              <a:t>The origin of baseball lives of an offshoot game called “cricke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lephant"/>
              </a:rPr>
              <a:t>In the 1860’s, baseball revealed its popularity with more and more fans and people watching and playin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5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90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95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5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Inventor: Alexander Joy Cartwr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Forte"/>
              </a:rPr>
              <a:t>In Alexander’s rules, plugging was allowed, which means that you were allowed to peg the ru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Forte"/>
              </a:rPr>
              <a:t>A ball that was fielded on one bounce was considered an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Forte"/>
              </a:rPr>
              <a:t>The game was won by the first team to score 21 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Forte"/>
              </a:rPr>
              <a:t>The pitching was underh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Forte"/>
              </a:rPr>
              <a:t>There was an unlimited amount of innings to be played, all one team had to do was score 21 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1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4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7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3:19:40Z</dcterms:created>
  <dc:creator>install</dc:creator>
  <dc:description/>
  <dc:language>en-US</dc:language>
  <cp:lastModifiedBy>install</cp:lastModifiedBy>
  <dcterms:modified xsi:type="dcterms:W3CDTF">2010-05-12T13:12:44Z</dcterms:modified>
  <cp:revision>10</cp:revision>
  <dc:subject/>
  <dc:title>Slide 1</dc:title>
</cp:coreProperties>
</file>